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6200-9A05-4175-82DB-75D0DB0DA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205C-1395-4527-AF90-AF93FB56C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4CDD7E-6778-4B6E-AAF2-3475CE527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DA0D3A-344A-43A8-9D8B-292B20BCC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CE9719-32B1-4C2E-B614-9B62ECB3D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75D282-AC52-47AB-A4B3-8288BE2D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5BF3B8-B726-4074-86A6-762CDF97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647699-072D-499B-AC7E-7B7B494C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52E039-CDC7-4BB0-AB14-8FB5E2AFD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6D71BD-6ADA-451C-A68E-332ADAD2F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CCE76D-2181-4201-AA3F-9CF88D7DC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208C50-E0D1-40E0-AC8B-D6FF8B290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5309-99E2-4A72-B32E-F5EDCE2E3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3B0CC9-D4E2-4269-AF8E-82F1240EA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D2A87C-2F5C-4245-8CE1-41F8E008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AB17D0-F5E0-4146-A57A-FDA556FD9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54BC8B-127F-4330-83A0-3E08CCFDB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635FC5-8DE9-4768-B4FC-937967236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0FE103-28AA-475E-9BDC-62BB99A2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95E171-D1E9-42FB-B0E5-3B00427F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3DA1BC-D84B-429A-B5FE-04D95901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41922D-9961-4603-8ADA-7A9FCB041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D031E2-904B-458F-B413-8656B7A95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82F2-4BE5-46A1-9C4F-1D8B0D1CD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50B1F1-B14F-494C-A5C5-0D9D65DCF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EA62D5-4049-415A-BDFE-264428E8A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1C3F07-3A54-475F-B168-7B2AB2A31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BFB7A0-1A17-40DB-B195-2F37DBC4C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CCEE8F-85D0-4E60-9DC0-1CEF94B70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3DA0A7-F50A-4EAB-BD0F-3434A4C19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A1CEA5-48BC-4F4A-8378-B25539565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B50ADA-2600-45D5-BE74-07A9325D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08AF8F-FCD5-4399-9A3D-5E6E9D7B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543E0A-DC98-48A5-A444-C61264A0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820EE-84C0-4B49-9C5E-9C71A7C1E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85E474-BEBA-4C0F-BD23-FFA9DD185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8AC2BD-91D6-468E-9ABA-88EFABD32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C67BB1-5C40-4F38-BFF1-B401B8A4E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5BE719-0192-4528-B9A0-A240D5285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0B31C2-E250-4DDC-901F-6900EAFF8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B211F5-809F-4C69-AD8C-E63B8E389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178E04-B8D6-4714-BADF-7307102F1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103612-7AC4-4B53-ADCF-BDC667002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868451-C0FB-4E4A-AD71-6A0645B78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F0ED2C-05C8-4655-94CB-8DD3AF5A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3BC66-FF6E-48D6-B2B4-F55ABC8EC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537972-C607-4AB4-A05C-EF9ECA1A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07DD85-387A-45F2-A8AA-2CC5EF2B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18BA17-4A33-49BD-80A4-1A9D48CAE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EFE672-C05E-4399-B597-99BC02E8C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573237-899C-4388-8E3F-717239E4D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4948B6-721F-4D0C-955E-35901F46A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E66C00-427C-4B1A-995F-AF24D1EA4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33D4E1-6EEA-4302-A719-5375BAC0B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A97990-4E02-4C96-B471-094C7F9B6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C0694B-796C-4316-9AC9-F7CB8D6D3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47B7B-B94F-4BE1-9748-52F1FA07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49A50C-D8CF-4F59-BF24-95B450A6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B19045-925B-40F6-98A5-DC1FED58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DBA8DC-74B3-4CC1-A98D-56C50D7A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D5ED3D-BA53-45EC-8067-FB7103C4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DFE604-EA39-4095-8BD2-598B6D79E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DB5156-AF88-4A0D-8F22-842547E10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A652A3-F141-40A9-8A53-098F50EAF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50A365-E1D1-48D2-9CCD-6E91C2F4C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292CEF-EB5C-43C4-B149-EFA573CFF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2CF957-B729-4BF6-93CD-F69B91EE2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B9564-8F41-45D9-A823-EB1248EB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53879A-0BEE-4002-8DA3-055381B8E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AD56EA-61EC-412C-A660-A9A5331AE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2CBE7C-9FEE-4148-B6B4-00C73DF1E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FB7A1E-30E3-4C09-90C4-43E34BC5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AB7111-C9B9-4629-925F-08C05123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391857-5DC3-4451-A246-99933E3B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524C63-56C8-43D3-B2D8-5C455451D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944D28-5563-40EE-8093-4013EDF0F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8C89E4-9FF5-4A59-B9D2-328313D93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7DFEE-510A-4175-8843-B5003B6B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955DB-0B94-452C-8E78-897425DBB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740EC-4889-4DCE-B040-496395E7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DF46-694F-4E74-A1A6-6CDD48193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7ADCF-E987-4AFD-BC0E-75A8E0AF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6BC40-ACCF-41B6-83CB-D4967366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0A7DB-9EA6-4792-9719-CF0B2FBB0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F36DC-B00C-42F8-B684-7AF2C564A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78CAD-171A-423F-A86B-29524FBB1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7A358-0C44-4DA9-A816-AFA508898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21E14-CCA6-4BAE-BA32-7F5036177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16990-8A5F-415C-A738-AC383C75F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814DC-7D3C-42EB-AD6D-62E251A31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C5E89-7D0B-4EB5-9CAB-9E233F78D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F5E0-FB19-4341-9261-15F4303AD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6570F-73BA-4C65-A031-4DAD1D874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BBCA8-1A99-44F9-A713-6698D716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3C768-C0C7-4195-8FE0-CC86F729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6CC9D-FAE3-4957-84B5-E71404AA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DDD23-B20D-45FB-B523-DD5D07813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C84E9-5DE2-4054-BA4E-F34E593BD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7C0E0-7184-4658-B1DE-07839DBFA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4A53D-51C0-4EDD-91A4-AF20D8A4D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C1909-5884-466F-A34E-00506D9FA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B3D85-9D3C-4264-89A1-2E67780B5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175E-7E5D-474F-A755-EE8DCD6F0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D08DB-A4EA-4DD2-8DC4-25207729F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650A0-4835-41D9-9E35-0BDE66B53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64523-2902-4DD3-905F-9F30D1EB4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09AA2-71AD-4D2F-9D20-6A9B9CCF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41FD1-04B6-4FB0-BFEC-9AC017DC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A1923-2A67-4016-A91C-9453FA9A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C9A40-131C-475A-B717-82CE28C0C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DB64C-1A74-4BE3-8B78-B4DB13F40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0D272-6093-47B9-8342-1BFB360BA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D02C7-3C17-4A38-AEE5-66313244A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46E2-E1D6-4A94-9CAA-971ADEC13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AE423-7BD8-48DE-9966-9C0B90B08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0E91A-17B0-4B57-BE0F-D090BF7C3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7C453-9C46-4B66-B656-8D278ECA9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099DB-BAA9-446F-9455-F1DE52E0E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11A20-F334-4496-B8F2-21862694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8D5BC-BBE6-4594-95D3-78085EAE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74900-2059-477E-A478-B04AA293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793CA-579B-4C2D-8D60-57099C78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1E048-BFC1-43CD-B299-E93F93462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D1BBB-BA50-4FFF-A28B-59911E20B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9224-7F05-459A-AD7A-4A25BFE55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B68C8-B9EC-4953-9246-BFC8CF3B8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4AB2FE-E152-44A3-8BCA-53D74854A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51B26B-CCEF-4878-B574-9E249B5F1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6572F3-1FCE-4778-882D-35C258BA4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0DC00E-57FB-401B-A048-195081807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D537BE-DD62-456D-A36F-02DA11113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559D03-6648-4497-8312-24AC18F87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FD3A80-9B0B-45CB-9315-6D31BB31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DB3D12-E9ED-4168-8477-1327A2C2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890CED-B35B-4B5E-BAF4-04353E72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7C58-87CE-48F7-B0F3-7C5024E3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F4BCB9-10CC-4108-A556-C240DE83C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9E82D6-C3DD-4931-AF3A-2B3CBA93A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331015-F3C6-45A4-AD43-D0DB9B0FF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D4761-EDE6-42F0-BE99-BFB5D1B52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021A1-0D51-4ACD-9CB9-101FAF1FC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332C6-99FB-4DD6-B531-6A17CF06D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09675-621D-4B8A-9250-2E66B9B28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9C7E4-D25F-4352-A1D4-3E296A028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6E69B-0CF5-4373-9039-E2B2B6218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348CCA-3BF9-4729-A4CD-DAF5636A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DB92-825B-489B-B558-05AF9C26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5F0685-DEAF-4DC2-AAC2-E9E6421F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759C1-4D44-444C-B3B5-2188ADE9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871B3B-7FD1-47C7-A4D3-2BFE59780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0A52A4-8C20-43D0-8821-3BF3CE7BE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E6376-272F-467C-BCD2-9E9B9BEE7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67DE14-9AD2-4B99-AA05-514CDD148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01A41A-DBEC-49AC-B23A-6905347EA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4110FF-5C2C-4EE8-9293-55E9C85C6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02E04-DD13-45D4-9599-C5F00BFE8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97B36A-DE10-4347-A2BB-2B6F62D8A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F06B-D3A4-47A5-BD7B-BA2B534E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887F41-B854-4A8A-8BA7-AE9AD8A8D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4061F1-B57D-4EA4-8036-779E09A1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F14FC0-8225-4F28-9343-2DAFF419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45C792-D829-4C37-BD93-8C55566B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F5430A-FD90-4E78-ACCF-E7EA4FAF6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CCCB98-8A55-4678-8B69-F419612CB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29C468-9708-418D-842A-56F515C5A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BAEE7D-15AD-4C6F-9BD2-4CC689FB6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FD251E-9E03-4024-8CCE-A0EE95681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38F509-64F9-40B5-90B0-19A2F863B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0CEB1-04DC-4764-9B61-D90F3904186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6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777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7759-4F34-40AC-BCE0-9877F3AE6C4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2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833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772AA-A894-4ABC-AB1D-9FF2D4CD042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88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3CDF0-585E-4F14-9B14-D7B3DDDB1AC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9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930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3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934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7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58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959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4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963F9-C2F7-402D-874D-29AE53A1859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7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008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11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012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5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36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37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42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1F38C-4522-4408-BABF-067674CF9F8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9E768-0E38-4DDC-8566-3DC5A63511E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60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61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64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67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70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74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75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78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84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90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93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99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202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205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7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0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3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6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217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9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2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223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5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226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8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229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1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4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235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7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39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40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43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46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8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1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52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4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58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0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3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64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6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9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70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72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82130-0CEA-4DFA-80F4-06DBB725633F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336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337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340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41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45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46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8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349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0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1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352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4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55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6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7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358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0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61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3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64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6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67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9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70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2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73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4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5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76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8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79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1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82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4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85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7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88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0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91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3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94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5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6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97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9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400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2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403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5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406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7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08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4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435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6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7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38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9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0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41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2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43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444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445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2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3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454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1CB50-E602-4160-9854-41299E2A5DEB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0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2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14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5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516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21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23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6BB4C-B0BB-48D3-B4AB-D7F0080919F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571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3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575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6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77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2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4148C-AD41-402F-A689-B389B704C62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63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 type="dt" idx="19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 type="ftr" idx="20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 type="sldNum" idx="2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50AC9-1D91-477B-8A23-8E7822F5AF6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67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dt" idx="22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 type="ftr" idx="23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 type="sldNum" idx="24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BC085-AAB1-453C-B9BB-E0AE5F27819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9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720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43DA8-2AE3-44FD-BDC4-BE9CC0E2B0B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9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y personal learning profil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y: Oscar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 advTm="15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y learning sty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visu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means I learn by reading, watching ,and viewing information in pri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5000">
    <p:wedg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y learning styl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s concrete and abstract sequential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at means I am logical and orderl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 advTm="15000">
    <p:wedg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50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50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5000" fill="hold"/>
                                        <p:tgtEl>
                                          <p:spTgt spid="10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5000" fill="hold"/>
                                        <p:tgtEl>
                                          <p:spTgt spid="10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5000" fill="hold"/>
                                        <p:tgtEl>
                                          <p:spTgt spid="10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5000" fill="hold"/>
                                        <p:tgtEl>
                                          <p:spTgt spid="10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hemispheres of my bra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 found out that my left hemisphere of my brain is a rotational and a sequential thinker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 right brain is a creative and abstract thinker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5000">
    <p:wedg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58" dur="2000" fill="hold"/>
                                        <p:tgtEl>
                                          <p:spTgt spid="10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y intelligence typ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s learned facts and street-wis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at means that I am knowledgeable and can work things to my advantag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 advTm="15000">
    <p:wedg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8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0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0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Why its importan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ts fun and important to know your learning styl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15000">
    <p:wedg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ow can I apply it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can use it in and out of sch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can also use it when I am stuck or I’m confus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5000">
    <p:wedg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1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0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98" fill="hold"/>
                                        <p:tgtEl>
                                          <p:spTgt spid="10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0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98" fill="hold"/>
                                        <p:tgtEl>
                                          <p:spTgt spid="10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3:42:56Z</dcterms:created>
  <dc:creator>student</dc:creator>
  <dc:description/>
  <dc:language>en-US</dc:language>
  <cp:lastModifiedBy>student</cp:lastModifiedBy>
  <dcterms:modified xsi:type="dcterms:W3CDTF">2010-11-23T16:13:10Z</dcterms:modified>
  <cp:revision>6</cp:revision>
  <dc:subject/>
  <dc:title>My personal learning profile</dc:title>
</cp:coreProperties>
</file>